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8798-5C73-47C5-B7A8-ED5252A64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7335-887D-4C5F-AB9D-55AC18A8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E36C-F2E1-4641-A92E-DC6E5843C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363F-D2EE-42AA-B4FF-8AB2CEF23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39F0-3099-46CA-AC03-A2BE7C9A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97CB-03BF-4169-AC87-ED9116F3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1A42-BEBC-48B0-A185-ED59F9F6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2828-61CD-4048-930E-86DBC869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5166-EE62-4585-9D19-CEFDFE26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82B1-BD5B-4130-BD87-54FD6328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73E2-3C6C-4940-BD50-1073BE41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783E-DA09-46F6-97AE-7D1D1BE2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F733-5895-4E75-A2FF-4364936FCC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амостоятельная рабо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457200" y="2743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3880" y="1447920"/>
          <a:ext cx="6096240" cy="4694040"/>
        </p:xfrm>
        <a:graphic>
          <a:graphicData uri="http://schemas.openxmlformats.org/drawingml/2006/table">
            <a:tbl>
              <a:tblPr/>
              <a:tblGrid>
                <a:gridCol w="2438640"/>
                <a:gridCol w="1143000"/>
                <a:gridCol w="1218960"/>
                <a:gridCol w="1295640"/>
              </a:tblGrid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т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хст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е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вн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Овал 6"/>
          <p:cNvSpPr/>
          <p:nvPr/>
        </p:nvSpPr>
        <p:spPr>
          <a:xfrm>
            <a:off x="7772400" y="5334120"/>
            <a:ext cx="457200" cy="533160"/>
          </a:xfrm>
          <a:prstGeom prst="ellipse">
            <a:avLst/>
          </a:prstGeom>
          <a:solidFill>
            <a:srgbClr val="fcd5b5"/>
          </a:solidFill>
          <a:ln cap="rnd"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Пользователь</cp:lastModifiedBy>
  <dcterms:modified xsi:type="dcterms:W3CDTF">2015-12-24T17:52:00Z</dcterms:modified>
  <cp:revision>9</cp:revision>
  <dc:subject/>
  <dc:title>Название презентации</dc:title>
</cp:coreProperties>
</file>